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175D-3444-4212-9FF3-693124402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CDB9-8EE2-4948-8E15-AB27136127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9542-0B56-4A54-A06C-B7C13499B0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2DE9-A30C-4ADE-8658-0B03724E82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ABFA-DF9B-4E7A-901B-600050D95C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F6E7-114C-4545-8846-42CBB7E866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468E-28E6-4A43-A185-10EEA64089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8548-74CA-44B9-8B00-D45D6651E0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6478-CD3C-40DF-A850-78611BAB28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E81A-894F-4DCC-8FFA-EB454888F4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66B4-2A9A-4DB7-A765-C9627E4C1B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7FFF-E9FB-4838-A3CD-07BC75AFD4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72F6-6D4A-4892-8426-B391222293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6446-095D-48EE-8778-365EF7209C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9774-8089-47A4-9230-DCF49BD237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AF26-E64D-4C0E-9CCC-B5DBF7E878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461A-F931-43E4-AEC5-AE85E10276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EC60-5284-4F34-902A-29245C64FE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93DC-5C2C-48EA-84D7-93BA3E6277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DCDB-F925-4662-8068-83B9D0CF0C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3379-28AF-4000-A8B2-ACCFE0CE35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B578-96B4-4130-8A86-5B0A01BF1D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4300-5399-420C-8B02-E8527BDE54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FF4E-9D65-4286-8C17-3A6E0FF06C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63AE-2456-4B93-BC2C-A29A77E1CE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27CF-5627-47CF-9241-CD1B6C1E93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8F4B-BB75-4DD4-96B2-7F4DA02BD3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E8E4-99C8-4188-BC4F-E6A78B8A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F5F-7992-4868-8725-8F1A3E6F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B4A-ED64-4FC6-91AE-F0A69791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9FEE-4112-482B-BA2A-57881FA4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4D2E-6DC1-4D82-9DAF-3E1DF617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A175-E891-40C8-9C14-9590D6E7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23E4-CA64-4FE9-80C1-50F71C4D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FC06-E1F3-487B-AE64-E3AA7A6E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0F2A-26FA-4E97-A1CC-E1ACCD25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9341-4718-43F4-9A09-E02FB521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792F-5986-49F0-BDD2-92ACC563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E72-744D-40E7-88A5-7AB272CF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499C-967E-4E17-A9F1-614BCDED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6A3C-F3A9-4B50-B563-39561318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D12A-FCF0-41B6-95BE-897012DA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BD78-5746-43AA-A140-8C1529D9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476E-1CED-449F-9E88-DF274F13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F0458-9638-4E7F-B05A-F275432D35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EBA89-DBF3-4769-A126-C60F9701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D202C-5ACB-4B6A-8EC3-7316E722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48A72-2A9A-426F-9C90-FE33B666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0F4C3D-1617-487B-B20C-63228659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7C4E-D500-44E0-89B6-5BA3E759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88AC2-ABE5-4968-B8B5-13A45D46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3EAB1-FF64-4202-8179-D6022461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F4939A-9645-4775-9987-47724E5E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134AD-2741-49A9-96BE-2900602C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41901-AAA7-4D4E-9757-6CC7370E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E8E07-69BC-4310-8537-E98F63F3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11499-7BB3-4A11-9250-3DC39C0A14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8219-0788-47B8-9195-A898A777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394-2F91-40B4-949D-17B95067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0AD-8C86-43D2-A3FD-17410829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D21-DECC-4087-B653-3B1F18CD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8A26-A588-4C8A-B35C-675ACE21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357-E8F8-4A9F-8458-CE1AC215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7F6B-04A4-402A-9CDC-927665E499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2009 Pearson Education, Inc. Publishing as Long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873D-672E-462B-9285-AF9BC0E412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4609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019920"/>
            <a:ext cx="21337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A691-0E83-4391-B440-F9FED4423F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vil Liberties and Public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2009 Pearson Education, Inc. Publishing as Longm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200400" y="0"/>
            <a:ext cx="5943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Edwards, Wattenberg, and Lineber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Government in America: People, Politics, and 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Fourteenth Ed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eedom of Expres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e Speech and Public Ord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eech is limited if it presents a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ear and present danger.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Schenck v. US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(1919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rmissible to advocate the violent overthrow of government in abstract, but not to incite anyone to imminent lawless a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Brandenburg v. Ohio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(1969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eech is generally protected in public places, but usually not on another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 private propert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eedom of Expres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ee Press and Fair Tria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extensive press coverage of high profile trials (OJ Simpson; Martha Stewart) permissible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ublic has a right to know what happens; trial must be open to the public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ess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own information about a trial may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be protect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et, some states have passed shield laws to protect reporter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eedom of Expres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bscen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 clear definition on what constitutes obscen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Justice Potter Stewart: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 know it when I see it.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Miller v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California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(1973) stated that materials were obscene if the work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ppeals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 a prurient interest in se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howed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atently offensiv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sexual condu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acks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rious literary, artistic, political or scientific valu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cisions on obscenity are based on local community standard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eedom of Expres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bel and Sland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bel: the publication of false or malicious statements that damage someone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 reput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lander: the same thing, only spoken instead of print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New York Times v. Sullivan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(1964): statements about public figures are libelous only if made with reckless disregard for truth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ivate individuals have lower standard to meet to win libel lawsui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eedom of Expres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ymbolic Spee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inition: nonverbal communication, such as burning a flag or wearing an armb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enerally protected along with verbal spee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Texas v. Johnson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1989): Burning the American flag is symbolic speech protected by the First Amendmen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ercial Speec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inition: communication in the form of adverti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enerally the most restricted and regulated form of speech (Federal Trade Commission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gulation of the Public Airwa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roadcast stations must follow Federal Communication Commission ru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gulation must be narrowly tailored to promote a compelling governmental interes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United States v. Playboy Entertainment Group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(2000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eedom of Assembl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ight to Assemb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enerally permissible to gather in a public place, but must meet reasonable local standards, such as fire codes and apply for permi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alance between freedom and ord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ight to Associ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reedom to join groups or associations without government interfer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NAACP v. Alabama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(1958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endants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Righ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uch of the Bill of Rights (Amendments 4, 5, 6, 7, and 8) apply to defendant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righ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preting Defendant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Righ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iminal Justice personnel are limited by the Bill of Rights and failure to follow constitutional protections may invalidate a convic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urts continually rule on what is constitutional and what is no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ight to Bear A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mon National, State, and Local Gun Law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strictions on owning and carrying handgun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ackground check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mited the sale of certain types of weapon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quirements that guns be stored in a fashion to prevent their theft or children from accessing and firing the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urts have usually upheld thes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ight to Bear A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litia Claus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advocates of gun control argued that the Second Amendment applied only to the right of states to create militi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District of Columbia v. Heller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2008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dividual right to possess a firearm unconnected with service in a militi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e that arm for traditionally lawful purposes, such as self-defense within the hom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ill of Rights–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n and Now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ivil Liberties: the legal constitutional protections against the gover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ill of Rights: first 10 amendments, which protect basic liberties, such as religion and spee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ight to Bear A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orporatio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D.C. vs. Heller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es not directly incorporate the Second Amendment: D.C. is not a stat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McDonald v. Chicago (2010)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ncorporated the Second Amendment to the sta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endants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Righ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2" name="Picture 10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153280" cy="3859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endants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Righ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arches and Seizu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bable Cause: when the police have reason to believe that a person should be arrest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nreasonable searches and seizures: evidence is obtained in a haphazard or random manner, prohibited by the Fourth Amend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clusionary Rule: the rule that evidence, no matter how incriminating, cannot be introduced into trial if it was not constitutionally obtain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Mapp v. Ohio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(1961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endants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Righ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f-Incrimin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inition: when an individual accused of a crime is compelled to be a witness against himself or herself in cou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ice must inform suspects of these and other Fifth Amendment protections upon arres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Miranda v. Arizona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196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tection from coerced confessions and entrap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endants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Righ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Right to Couns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state must provide lawyers in most criminal cases (Sixth Amendment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Gideon v. Wainwright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(196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i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lea bargaining: a bargain between the prosecution and defense for a defendant to plead guilty to a lesser crime; 90 percent of cases end here and do not go to tri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Juries generally consist of 12 people, but unanimity is not always needed to convic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Sixth Amendment also guarantees a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eedy and public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tri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endants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Righ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ruel and Unusual Punish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Eighth Amendment forbids cruel and unusual punishmen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death penalty is not cruel and unusual.  It is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 extreme sanction, suitable to the most extreme crimes.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Gregg v. Georgia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197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death penalty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 use and application varies by stat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Right to Priv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 There a Right to Privac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inition: the right to a private personal live free from the intrusion of govern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t explicitly stated in the Constitution, but implied by the Fourth Amend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Griswold v. Connecticut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1965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Right to Priv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4" name="Picture 19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5181480" cy="33973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troversy over Abor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Roe v. Wad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(197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Planned Parenthood v. Casey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199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ctions of those seeking an abor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ghts of protes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derstanding Civil Libert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ivil Liberties and Democrac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ghts ensured in the Bill of Rights are essential to democrac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urts typically protect civil liberties from excesses of majority ru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ivil Liberties and the Scope of Govern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deciding between freedom and order, the United States generally chooses libert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ivil liberties limit the scope of government, even though government efforts are needs to protect righ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ivil liberties are expressed in the Bill of Righ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are the individua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 protections—for religion, expression, assembly, and the accused—against the governme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gislatures and courts constantly define what the Bill of Rights protects in practi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ill of Rights—Then and N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rcRect l="0" t="19546" r="0" b="1954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ill of Rights—Then and N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rcRect l="0" t="20242" r="0" b="2024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ill of Rights—Then and N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Bill of Rights and the Sta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ritten to restrict the national govern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ngress shall make no law…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Barron v. Baltimore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(183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st have been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orporated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through the 1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Amendment, and now restrict state and local govern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rst Amendment protection of speech first incorporated to states in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Gitlow v. New York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(1925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eedom of Relig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stablishment Clau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gress shall make no law respecting the establishment of religion…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Lemon v. Kurtzma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1971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ular legislative purpo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ither advance nor inhibit relig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 excessive government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tanglement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eedom of Relig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stablishment Clause (continued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 school vouchers constitutional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Zelman v. Simmons-Harris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200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ayer in public schools violates Establishment Claus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Engel v. Vitale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196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about displays of the Ten Commandment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eedom of Relig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ree Exercise Clau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hibits government from interfering with the practice of relig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me religious practices may conflict with other rights, and then be denied or punish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Employment Division v. Smith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1988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ligious Freedom Restoration Act (199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eedom of Expres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or Restra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inition: a government preventing material from being published; censorship; unconstitution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Near v. Minnesota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1931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y be permissible during warti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ne may be punished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afte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omething is publishe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2T19:58:07Z</dcterms:created>
  <dc:creator>Matthew Eshbaugh-Soha</dc:creator>
  <dc:description/>
  <dc:language>en-US</dc:language>
  <cp:lastModifiedBy>madisonk Madison</cp:lastModifiedBy>
  <dcterms:modified xsi:type="dcterms:W3CDTF">2014-09-30T15:21:24Z</dcterms:modified>
  <cp:revision>99</cp:revision>
  <dc:subject/>
  <dc:title>Civil Liberties and Public Policy</dc:title>
</cp:coreProperties>
</file>